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6B2-7C6B-45CB-9312-A3060437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253-1F19-4E5F-A8EA-7C4F05CA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F48-C7EE-4FAE-B0C9-E16655C0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60F-82E1-4CF7-82BF-EFDA4ABC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6AC-3417-401E-80EC-BEBFA870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5A4-A268-40DD-857C-EDFF06F1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A55-F045-4797-AC73-D80CAD3E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D76-20EC-4460-854D-1D971D68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55D-D40C-42FA-8807-1FBC4499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CFA-CAD7-48B2-9B62-6E175482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751-D306-4A8B-8C3B-2F69C31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B1C-5299-4E75-92DB-9EB150C2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BBB3-BF26-459A-B6EC-6FC5D5020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28600" y="93204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ist mein(e)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 heisst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ist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 ist 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be u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 ist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 wohnt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 mag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in Zeichnen MUS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kkur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utli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eat) sein.  Du musst das fär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ine Beschreibung musst au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utl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kkur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 musst ein Tier wählen (choose) und zeichnen (draw).  Du musst auch eine Beschreibung (description) schreibe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28600" y="3657600"/>
            <a:ext cx="716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 ist w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h suche mein(e, en)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 (läuft, schwimmt, spricht, flieg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h … (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h … (Wohn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ine Telefonnummer ist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 fehlt m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9:47:31Z</dcterms:created>
  <dc:creator>ahart</dc:creator>
  <dc:description/>
  <dc:language>en-US</dc:language>
  <cp:lastModifiedBy>ahart</cp:lastModifiedBy>
  <dcterms:modified xsi:type="dcterms:W3CDTF">2012-10-23T13:49:03Z</dcterms:modified>
  <cp:revision>3</cp:revision>
  <dc:subject/>
  <dc:title>Slide 1</dc:title>
</cp:coreProperties>
</file>